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8.wmf" ContentType="image/x-wmf"/>
  <Override PartName="/ppt/media/image12.jpeg" ContentType="image/jpeg"/>
  <Override PartName="/ppt/media/image7.gif" ContentType="image/gif"/>
  <Override PartName="/ppt/media/image10.jpeg" ContentType="image/jpeg"/>
  <Override PartName="/ppt/media/image9.wmf" ContentType="image/x-wmf"/>
  <Override PartName="/ppt/media/image6.gif" ContentType="image/gif"/>
  <Override PartName="/ppt/media/image5.wmf" ContentType="image/x-wmf"/>
  <Override PartName="/ppt/media/image13.jpeg" ContentType="image/jpeg"/>
  <Override PartName="/ppt/media/image3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5.png" ContentType="image/png"/>
  <Override PartName="/ppt/media/image14.wmf" ContentType="image/x-wm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B11-AC23-422F-80D1-C001458A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DEF-310C-4C84-9B3A-EDC6A79F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DFB-2EAB-4362-862D-B5A5D46B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BBE-1F27-4960-9324-889C1AE7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A98-3C2D-4DB0-AEF3-4B0D7447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4AD-0921-4DFE-9CC7-8609703D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169-6B50-4C9B-91FD-6B4D367F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CD8-8609-4BC4-88D5-77CEAFE3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101-B4A2-47E1-8DAB-CD7F6A97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A73-C88D-4829-9DB8-61187C2A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12C-DC49-4093-9194-BA64EC9C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945-BA19-4F08-B534-D4491ED5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351C-9BA8-43EF-9CDC-F8570B3A9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26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000000"/>
                </a:solidFill>
                <a:uFillTx/>
                <a:latin typeface="Banner"/>
              </a:rPr>
              <a:t>Women on the Goldfiel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3645000"/>
            <a:ext cx="410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angle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angle"/>
              </a:rPr>
              <a:t>EMILY V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757800">
            <a:off x="394920" y="3573000"/>
            <a:ext cx="2592360" cy="2397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225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66ff"/>
            </a:gs>
            <a:gs pos="100000">
              <a:srgbClr val="ff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7280" y="33336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se are some pictures of gold &amp; nug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043000" cy="216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56360" y="981000"/>
            <a:ext cx="2662200" cy="2035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2592360" cy="1947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393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Melted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227640" y="4365720"/>
            <a:ext cx="2409840" cy="2260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796000" y="4005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People at the gold r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348000" y="2133720"/>
            <a:ext cx="2214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2663640" cy="221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4972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Gold mining in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2409840" cy="1596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732720" y="115920"/>
            <a:ext cx="2276280" cy="1708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2721240" cy="2170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348000" y="1484280"/>
            <a:ext cx="2225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cc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732720" y="4508640"/>
            <a:ext cx="1877760" cy="2016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12000" y="393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tural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 rot="757800">
            <a:off x="3131640" y="1988640"/>
            <a:ext cx="2592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2692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bliography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052640"/>
            <a:ext cx="828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Women on the Australian gold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Life on the gold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Books about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Googl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08720" y="2924280"/>
            <a:ext cx="23889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Black"/>
              </a:rPr>
              <a:t>Channel seven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Well thank u Emily for coming on the channel seven news it was a pleasure having u.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Thank u Isabella for letting me come on the channel seven new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well that’s it for tonight i hope u have a good rest of the week b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77336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 Black"/>
              </a:rPr>
              <a:t>Welcome to the channel seven news my name is Isabella Costa and I am going to be talking to Emily about her assignment on Chinese women on the goldfiel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60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 Black"/>
              </a:rPr>
              <a:t>Channel Seven n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2920" y="1159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7345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What they 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What was it like on the gold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Transpor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Bibliograp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43640" y="333360"/>
            <a:ext cx="2225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260280"/>
            <a:ext cx="842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11858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680"/>
            <a:ext cx="885672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a long dress with a high neck, tight waist and a full sk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a cotton petticoat and bloomers undern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striped stock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hard wearing b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a large bonnet to keep of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when the miners worked for long hours their clothes got worn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some people wore boots some wore shoes but most of them couldn’t afford to buy shoes or boots so they had to go baref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23050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260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was their job on the gold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98100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many of the women cooked, cleaned, washed the clothes and they also did the iro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some women sang and danced on the gold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few women were diggers and some were shopkee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few women stayed home with their children while their husbands were at the digg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women made bread, butter, jams, soaps and clothes for their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297560" y="189000"/>
            <a:ext cx="1846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47640" y="18900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did people eat on the gold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557360"/>
            <a:ext cx="72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damper, b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dried meat, m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bread, flour, water, eggs, b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they mostly ate damper, bread &amp; flour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11280" y="4076640"/>
            <a:ext cx="29718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3280" y="1159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was it like on the gold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26828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765000"/>
            <a:ext cx="8424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many people teased the chinese and the aboriginal because they we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lot of the white people teased and threatened 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lot of the parents couldn’t afford to buy things for their children, only the rich people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lot of children on the goldfields got sick because they  weren't wearing proper clo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56000" y="4724280"/>
            <a:ext cx="24476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11592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kind of things did they use to get to the goldfiel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836640"/>
            <a:ext cx="763272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mostly the poor people traveled by walking because they couldn’t afford to buy horses because they were very expen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the rich people could travel by horses and carri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some people came with donkeys and bullocks because they could carry lots of we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people from other countries</a:t>
            </a:r>
            <a:r>
              <a:rPr b="0" lang="en-US" sz="23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came by ships because there was no other way to tra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56000" y="4643280"/>
            <a:ext cx="2735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58920" y="189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was it like to live at the goldfiel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836640"/>
            <a:ext cx="7632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usually people used tents and huts covered by b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the mattresses that they used were stuffed with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the miners sat on logs around the camp fire and sang songs because there was no computer or TV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the chinese slept in tents but they slept faraway from the other cultures because there was a f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03640" y="4724280"/>
            <a:ext cx="1873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07:11:16Z</dcterms:created>
  <dc:creator>ME</dc:creator>
  <dc:description/>
  <dc:language>en-US</dc:language>
  <cp:lastModifiedBy>emily_viler</cp:lastModifiedBy>
  <dcterms:modified xsi:type="dcterms:W3CDTF">2010-09-21T02:29:37Z</dcterms:modified>
  <cp:revision>20</cp:revision>
  <dc:subject/>
  <dc:title>Slide 1</dc:title>
</cp:coreProperties>
</file>